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88A-C1B3-4722-9BC1-28C58BE9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F85-AAD0-4C3A-9D9B-E2817274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9EF-ABFE-479D-9725-7EBEDE81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BD9-2686-4026-962A-5C2D2A0E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93A0-A64D-4282-8F68-69C93BA3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1AB5-E3B0-4C35-96E6-5BFF954A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A4F9-3A49-48F1-AD7B-8D85EB9E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8464-F30A-4FB4-ACBF-0C6B3744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9580-3DFB-41D2-8AFD-58C33BC2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2EC0-08C4-47A7-8E86-F5E63F1D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EEDD-2A3F-4F45-A5CD-CAF99357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A29-5AE6-4C9A-A81E-E689D7D8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BA2C-1BF1-43DF-B5F2-D08EA535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24A1-C60C-4CBD-BABC-011026B9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9C88-B571-4397-BCB0-32AC8106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1490-CB11-47A7-AC23-BF880BCF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2A40-C0D6-49EA-8C2A-D64600F2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71FB5-9B5E-4111-BB14-E8BF1160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44E30-4080-4D3F-A6E0-B1D3A8BE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3C78F-6C33-4960-B685-4CA3BF59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F0CB1-8BA6-48F7-9CA5-B0C6CEA3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82276-6DD2-4AB2-AEF2-114E07FE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BAD-1D9F-4684-997F-44C468BD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B8113-BA73-4F76-8FB6-D9C6C925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4A030-8884-4B48-8451-793903FC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810E8-1177-4020-8EB6-E3FDA73B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DA620-B167-43A0-9825-E3D6C177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EBEEE-07ED-4036-A44C-1B03C589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6238A-1BD7-4EB6-B557-13A05382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9B455-4874-45C6-946A-47F58222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2FD7E-B236-42B7-ADA0-C63132D0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59CF0-C2DC-402F-BCFE-AE626834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ECE63-37BB-482F-9A19-CDD36815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422-EAD6-418B-91E1-F54EE1C5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7BFD6-A4B0-4184-8E3F-85CB776C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3B51F-5F55-490C-B834-B175A62E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668F4-DFEB-4D78-B328-ACEEC4BC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76025-3E1C-4C30-8DB2-DBB0CCF7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C0E86-4570-4936-9620-C910AC22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1554F-DC6A-42B3-AA3F-A3BA0E12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D6156-B2EA-4BE5-8D8A-72D36DE2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E0F91-5F09-4CAD-A1C5-5692EC91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7C650-6BD2-490A-920D-99F8191D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AE591-D9E8-42EB-8F0A-46C6D504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7D20-F51A-4DBE-B9B7-A89BD252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AF75D-64B5-421E-8F87-7AC1C20E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E2A1B-FDB3-4A9D-A76E-2AF12EE0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13290-4A6C-4F6F-BD30-D3EA27B3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D2914-22DA-4792-8B4E-C1E4CEC6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E3ABE-C254-448C-89FF-9498FFC0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C50C1-73F0-4AE1-9F18-82A55A38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C8D4F-F72F-413B-8CEE-C0138863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3E489-08E0-419B-BD78-8CB9F24F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1813D-4299-481C-B345-EE4C0CB8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8A38B-0099-45CB-B9B7-36DCB969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B9CE-8CBB-49CD-8DF4-B5D3BB5B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29A9A-9973-4E7F-AB4F-A3DED201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D37-E597-4288-AACE-1E097BCF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4964-194E-4E71-A1E3-E3EE3ED1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CBD-42EE-460B-B930-7FED2F5F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1370-BB8F-45BB-9510-91BD9289B999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782800"/>
                <a:gd name="textAreaBottom" fmla="*/ 2783160 h 2782800"/>
              </a:gdLst>
              <a:ahLst/>
              <a:rect l="textAreaLeft" t="textAreaTop" r="textAreaRight" b="textAreaBottom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751E-D593-48F6-B44D-E9C75865686C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4B5C-337E-4B60-9775-8F19F8EEB599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24E4-20A0-458B-B2C1-7547C679903A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E3B5-0B63-4824-BD42-7AB3D30C3A87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66e1"/>
            </a:gs>
            <a:gs pos="100000">
              <a:srgbClr val="c1e6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46240" y="360000"/>
            <a:ext cx="873432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974680" y="1589040"/>
            <a:ext cx="76928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вила дорожные детям знать положено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и 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: Мустафаева Л.Т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омедова И.Р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Южно-Сухокумск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6" name="Рисунок 3" descr=""/>
          <p:cNvPicPr/>
          <p:nvPr/>
        </p:nvPicPr>
        <p:blipFill>
          <a:blip r:embed="rId1"/>
          <a:stretch/>
        </p:blipFill>
        <p:spPr>
          <a:xfrm>
            <a:off x="870120" y="2573280"/>
            <a:ext cx="2352600" cy="27068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для родителей в папке-передвижке «Дорожная азбука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4" name="Объект 3" descr=""/>
          <p:cNvPicPr/>
          <p:nvPr/>
        </p:nvPicPr>
        <p:blipFill>
          <a:blip r:embed="rId1"/>
          <a:srcRect l="0" t="0" r="-138" b="25190"/>
          <a:stretch/>
        </p:blipFill>
        <p:spPr>
          <a:xfrm>
            <a:off x="3344760" y="2406600"/>
            <a:ext cx="6462720" cy="3321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к по безопасности  в групп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7" name="Picture 4" descr="C:\Users\Админ\Desktop\IMG-20200205-WA0001.jpg"/>
          <p:cNvPicPr/>
          <p:nvPr/>
        </p:nvPicPr>
        <p:blipFill>
          <a:blip r:embed="rId1"/>
          <a:stretch/>
        </p:blipFill>
        <p:spPr>
          <a:xfrm>
            <a:off x="3597120" y="2233440"/>
            <a:ext cx="5643720" cy="3662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ла к игре-путешествию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В страну дорожных знаков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0" name="Picture 4" descr="C:\Users\Админ\Desktop\IMG-20200205-WA0011.jpg"/>
          <p:cNvPicPr/>
          <p:nvPr/>
        </p:nvPicPr>
        <p:blipFill>
          <a:blip r:embed="rId1"/>
          <a:stretch/>
        </p:blipFill>
        <p:spPr>
          <a:xfrm>
            <a:off x="3789360" y="2570040"/>
            <a:ext cx="6027840" cy="3818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юр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3" name="Picture 4" descr="C:\Users\Админ\Desktop\IMG-20200205-WA0000.jpg"/>
          <p:cNvPicPr/>
          <p:nvPr/>
        </p:nvPicPr>
        <p:blipFill>
          <a:blip r:embed="rId1"/>
          <a:stretch/>
        </p:blipFill>
        <p:spPr>
          <a:xfrm>
            <a:off x="3876840" y="2303640"/>
            <a:ext cx="5580000" cy="3404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ветофорики»  и «Дорожные знаки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6" name="Picture 4" descr="C:\Users\Админ\Desktop\IMG-20200205-WA0008.jpg"/>
          <p:cNvPicPr/>
          <p:nvPr/>
        </p:nvPicPr>
        <p:blipFill>
          <a:blip r:embed="rId1"/>
          <a:stretch/>
        </p:blipFill>
        <p:spPr>
          <a:xfrm>
            <a:off x="4054320" y="2443320"/>
            <a:ext cx="5354640" cy="3500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гает «Шапокляк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9" name="Picture 4" descr="C:\Users\Админ\Desktop\IMG-20200205-WA0012.jpg"/>
          <p:cNvPicPr/>
          <p:nvPr/>
        </p:nvPicPr>
        <p:blipFill>
          <a:blip r:embed="rId1"/>
          <a:stretch/>
        </p:blipFill>
        <p:spPr>
          <a:xfrm>
            <a:off x="3643200" y="2189160"/>
            <a:ext cx="5921640" cy="3970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тофор» принёс письм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облемными ситуациями на дорог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Picture 4" descr="C:\Users\Админ\Desktop\IMG-20200205-WA0010.jpg"/>
          <p:cNvPicPr/>
          <p:nvPr/>
        </p:nvPicPr>
        <p:blipFill>
          <a:blip r:embed="rId1"/>
          <a:stretch/>
        </p:blipFill>
        <p:spPr>
          <a:xfrm>
            <a:off x="3589200" y="2104920"/>
            <a:ext cx="5824800" cy="3922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ая игра «Светофорчики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5" name="Picture 4" descr="C:\Users\Админ\Desktop\IMG-20200205-WA0003.jpg"/>
          <p:cNvPicPr/>
          <p:nvPr/>
        </p:nvPicPr>
        <p:blipFill>
          <a:blip r:embed="rId1"/>
          <a:stretch/>
        </p:blipFill>
        <p:spPr>
          <a:xfrm>
            <a:off x="3895560" y="1996920"/>
            <a:ext cx="5235840" cy="3573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7" name="Picture 4" descr="C:\Users\Админ\Desktop\IMG-20200205-WA0007.jpg"/>
          <p:cNvPicPr/>
          <p:nvPr/>
        </p:nvPicPr>
        <p:blipFill>
          <a:blip r:embed="rId1"/>
          <a:stretch/>
        </p:blipFill>
        <p:spPr>
          <a:xfrm>
            <a:off x="3657600" y="2089080"/>
            <a:ext cx="5907240" cy="39988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есня «Яркие огоньки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8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роекта подготовили воспитател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стафаеваЛ.Т. Магомедова И.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8000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84360" y="407880"/>
            <a:ext cx="991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450440" y="1088640"/>
            <a:ext cx="1005228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ый, познавательно-исследовательский 5-6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месяце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и старшей группы, родители группы, воспитател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област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йствованы все образовательные обла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0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84280" y="231480"/>
            <a:ext cx="100188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ое сло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84280" y="2414520"/>
            <a:ext cx="10018800" cy="29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marL="199800" indent="-1998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ждена, что метод проектирования - это технология включающая комплексную деятельность, которая даёт положительные результат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проекта «Правила дорожные детям знать положено» смогли заинтересовать родителей и их детей к совместной деятель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проект может быть рекомендован как воспитателям ДОУ так и родителям, так как он является необходимым звеном по профилактике ДДТ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ья, здоровья вам и вашим детям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84280" y="1584360"/>
            <a:ext cx="10018800" cy="42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острота проблемы диктует необходимость поиска новых форм и методов воспитания обучения по профилактике детского дорожно-транспортного травматизма, проведению профилактической работы с детьми и родителями воспитанников на основе современных педагогических технологий таких как проектная деятель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84280" y="1719360"/>
            <a:ext cx="10018800" cy="42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максимально эффективных условий для детей старшего дошкольного возраста по формированию элементарных правил дорожно-транспортной безопасности в ходе реализации проекта «Правила дорожные детям знать положено» посредствам включения родителей воспитанников в образовательную деятельность, направленную на расширение и закрепление знаний воспитанников и их родителей ПДД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9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84280" y="267840"/>
            <a:ext cx="100188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84280" y="1669680"/>
            <a:ext cx="10018800" cy="518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навыков безопасного поведения и развития познавательных процессов необходимых для правильной ориентации на дороге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дить партнёрские взаимоотношения педагогов и родителе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редставление о правилах поведения пешехода на улицах город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способности к предвидению возможной опасности в конкретно меняющейся ситуации и построению адекватного безопасного поведения на дороге; 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с детьми знаний правил уличного движе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ребёнка ориентироваться в дорожных ситуациях на пути движения в детский сад и обратно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8000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й результа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84280" y="1816200"/>
            <a:ext cx="10018800" cy="397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птимальных и необходимых условий для организации совместной деятельности с родителями по профилактике детского дорожно-транспортного травматизма ДДТТ 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Формирование у детей элементарных норм и правил дорожно-транспортной безопасности 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тие  дошкольникам  умения ориентироваться в дорожных ситуациях на пути движения в детский сад и обратн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84280" y="450360"/>
            <a:ext cx="100188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отац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84280" y="1536480"/>
            <a:ext cx="10018800" cy="46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ланированные мероприятия проводятся в непосредственной образовательной деятельности, в совместной деятельности воспитателей и детей  в виде:  бесед, викторин, выставок детских работ по ПДД, наблюдений за движением транспорта, чтение художественной литературы, отгадывания загадок, кроссвордов;  развивающие, познавательные, сюжетно-ролевые, подвижные игры, оформление уголка по «Правилам дорожного движения», разработка и использование маршрута «Дом – детский сад» совместно с родителя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8000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еализации проек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350720" y="2255400"/>
            <a:ext cx="10018440" cy="441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плакатов по безопасности дорожного движения с деть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на лучший рисунок по ПДД «Светофорик» совместно с родителями на тему «Я пешеход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 родителями и использование маршрута «Дом – детский сад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занятий по ПДД, дидактических, сюжетно-ролевых иг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путешествие « В страну дорожных знаков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произведений по тематике ПДД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стенды для родителей по ПД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 детских работ по ПДД «Светофорик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2" name="Объект 3" descr=""/>
          <p:cNvPicPr/>
          <p:nvPr/>
        </p:nvPicPr>
        <p:blipFill>
          <a:blip r:embed="rId1"/>
          <a:srcRect l="17026" t="11927" r="14288" b="15937"/>
          <a:stretch/>
        </p:blipFill>
        <p:spPr>
          <a:xfrm>
            <a:off x="3452760" y="2070000"/>
            <a:ext cx="5965920" cy="3403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5:34:29Z</dcterms:created>
  <dc:creator>1</dc:creator>
  <dc:description/>
  <dc:language>en-US</dc:language>
  <cp:lastModifiedBy>Админ</cp:lastModifiedBy>
  <dcterms:modified xsi:type="dcterms:W3CDTF">2020-02-05T19:20:39Z</dcterms:modified>
  <cp:revision>123</cp:revision>
  <dc:subject/>
  <dc:title>Муниципальное бюджетное дошкольное образовательное учреждение «Новокараканский детский сад комбинированного вида»</dc:title>
</cp:coreProperties>
</file>